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F897-588A-43AF-8540-C28CFAFE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0DA0-0942-4455-931B-E3736A49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DC0E-51E7-43D1-A6B2-97FC8864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FD79-4E70-4AAD-8F99-E140EFB0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3C3A-7DF5-4D7F-89B9-A7587207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5E1D-9121-4098-B243-2CE80DFA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D8C-26D6-4A27-9FCD-422E4481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CBB4-D223-4FCE-AA15-C3271CAE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68B9-9AC2-4F56-8ED6-BEA37EF0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922F-EE9A-4CCF-A204-FDB76B43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5EE-6CF7-4EFE-A610-D049BFDF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6486-DA40-4603-9C2E-56571F64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F0CB-9FAB-438A-938D-B76ACB1C3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609480"/>
            <a:ext cx="777564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A Unit 3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-Solving Methodology &amp;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ly represents steps required to create th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symb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tangle,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mond,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ombus, input or an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/stop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 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cquiring, assembling, and testing new hardware and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nstruction of database. Tables, queries, input forms, reports, mac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tion, manual &amp; electr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s: range checks, spellchecking, predefined lists, data type check, input mask, al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   Testing the solution and out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 to ensure all features and functions work and information is free from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te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l, occurs during the development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testing, testing once solution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ch test, sample data tested to see how solution beh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acceptance testing, asking users to follow a series of tests and then provide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functionality through carrying out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clarity of message, through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  Docu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, step-by-step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nic or hard 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 files, online documentation via internet or intra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 copy, booklets, quick reference cards, posters, technical manuals, training man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to suit purpose of intended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 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iscontinuation of previous practices and commencement of new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ining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nhouse, one on one, demonstrations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ffsite, computer roo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  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991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efficiently and how effective does the new system meet its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, speed, cost, time &amp;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ness, quality of output, accura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s within 3 – 6 months of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ools of surveys, interviews, direct observation of work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ing the systems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veying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ging error rates &amp; help desk enqui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ing total cost of working d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ing custom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pabilities &amp; Limitations of DB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bilities refers to how well a piece of hardware or software performs its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bilities, sort, query, mac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bilities, refer to notes on relational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tions of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notes flat file Vs relational 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olving – 7 S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DDTD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 Handout cover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 w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roblem investigated &amp; 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equired information/output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Ident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Alternative solutions consid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Preferred solution is determ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mats &amp; conven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dentifies hardware &amp; software for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pecifies how data will be validated &amp; st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rocedures during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hoosing layout designs, conventions &amp;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pecifies output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Develop a test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management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igning a Database – Key Te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at file database, stores data in tables or files consisting of rows and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, same type of data for a series of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rd, information about one entity, eg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ary key, uniquely identifies each record in a data 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, data entry screens, input mask, used to control how data is entered, eg. accept accepted no of digits, dates or characters in a commonly accepted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ry, records meeting certai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, result of a query in usabl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ros or buttons or use of scripts to automate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igning a Database – Key Te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Data types, text, numeric, data, boolean,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Relational database, stores data tables that are arranged in rows and columns and linked by a common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Relationship, a connection within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Relationships: one-to-one; one-to-many; many-to-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lat File Vs Relational Data 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 of a relational datab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 data redundancy – unnecessary duplication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data integrity or accuracy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le to access the data from separate but related tables or files very quickly and sim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easy querying, reporting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Structure tables containing, name, data type and size of each field in a table &amp; va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desig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ck-ups &amp; layout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base Design Tools, User interf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istics of effective user interfaces; where the user interacts with the information system, using layout diagram to plan on-screen outp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quality user interfaces take into account usability and accessibilit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t 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es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information eas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ctions for navigating help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ent 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ropriate and relevant information according to audi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ing Conven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ingful name of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s of forms indicate their 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, short descriptive names &amp; not use 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ies include search criteria in 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23:42:24Z</dcterms:created>
  <dc:creator>KB</dc:creator>
  <dc:description/>
  <dc:language>en-US</dc:language>
  <cp:lastModifiedBy>Kelvin Baird</cp:lastModifiedBy>
  <dcterms:modified xsi:type="dcterms:W3CDTF">2006-12-30T00:20:39Z</dcterms:modified>
  <cp:revision>7</cp:revision>
  <dc:subject/>
  <dc:title>System Development Life Cycle</dc:title>
</cp:coreProperties>
</file>